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206400" cy="393192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1D3-C2E3-41D2-93E1-D7BF3BE9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60680" y="9173880"/>
            <a:ext cx="4608504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60680" y="22727520"/>
            <a:ext cx="4608504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917-F5C1-439C-B8FE-4386088C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60680" y="917388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74880" y="917388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60680" y="2272752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74880" y="2272752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C46-6749-42ED-AE26-C051E197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60680" y="9173880"/>
            <a:ext cx="1483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142200" y="9173880"/>
            <a:ext cx="1483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723720" y="9173880"/>
            <a:ext cx="1483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60680" y="22727520"/>
            <a:ext cx="1483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142200" y="22727520"/>
            <a:ext cx="1483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723720" y="22727520"/>
            <a:ext cx="1483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21F-CC7F-4DDE-9972-BD90D67A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60680" y="9173880"/>
            <a:ext cx="46085040" cy="259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24"/>
              </a:spcBef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ACC-D3FE-4467-BB09-154A6D02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60680" y="9173880"/>
            <a:ext cx="46085040" cy="2594916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90C-BC8F-4E53-9DC8-CA201A7E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60680" y="9173880"/>
            <a:ext cx="22489200" cy="2594916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74880" y="9173880"/>
            <a:ext cx="22489200" cy="2594916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492-FC49-4413-B4FB-7BC67E97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92B-8826-4FB7-9C0C-EE5E5064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60680" y="1574640"/>
            <a:ext cx="46085040" cy="30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24"/>
              </a:spcBef>
              <a:tabLst>
                <a:tab algn="l" pos="0"/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21F-004A-4FAD-AE1F-3F004046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60680" y="917388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74880" y="9173880"/>
            <a:ext cx="22489200" cy="2594916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60680" y="2272752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31E-9A97-44CB-A363-E47FCE3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60680" y="9173880"/>
            <a:ext cx="22489200" cy="2594916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74880" y="917388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74880" y="2272752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8C8-BF81-45C3-9B14-B0AFFAE5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60680" y="917388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74880" y="9173880"/>
            <a:ext cx="2248920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60680" y="22727520"/>
            <a:ext cx="46085040" cy="1237752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indent="0">
              <a:spcBef>
                <a:spcPts val="4524"/>
              </a:spcBef>
              <a:buNone/>
              <a:tabLst>
                <a:tab algn="l" pos="5172120"/>
                <a:tab algn="l" pos="1034424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34E-7E63-47F3-B22D-BEF55C2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60680" y="1574640"/>
            <a:ext cx="46085040" cy="655344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ctr">
            <a:noAutofit/>
          </a:bodyPr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r>
              <a:rPr b="0" lang="en-US" sz="2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60680" y="9173880"/>
            <a:ext cx="46085040" cy="2594916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rmAutofit/>
          </a:bodyPr>
          <a:p>
            <a:pPr marL="1940040" indent="-1940040">
              <a:spcBef>
                <a:spcPts val="4524"/>
              </a:spcBef>
              <a:buClr>
                <a:srgbClr val="000000"/>
              </a:buClr>
              <a:buFont typeface="Arial"/>
              <a:buChar char="•"/>
              <a:tabLst>
                <a:tab algn="l" pos="5172120"/>
                <a:tab algn="l" pos="1034424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  <a:p>
            <a:pPr lvl="1" marL="4203720" indent="-1617840">
              <a:spcBef>
                <a:spcPts val="4524"/>
              </a:spcBef>
              <a:buClr>
                <a:srgbClr val="000000"/>
              </a:buClr>
              <a:buFont typeface="Arial"/>
              <a:buChar char="–"/>
              <a:tabLst>
                <a:tab algn="l" pos="5172120"/>
                <a:tab algn="l" pos="1034424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  <a:p>
            <a:pPr lvl="2" marL="6465960" indent="-1293840">
              <a:spcBef>
                <a:spcPts val="4524"/>
              </a:spcBef>
              <a:buClr>
                <a:srgbClr val="000000"/>
              </a:buClr>
              <a:buFont typeface="Arial"/>
              <a:buChar char="•"/>
              <a:tabLst>
                <a:tab algn="l" pos="5172120"/>
                <a:tab algn="l" pos="1034424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  <a:p>
            <a:pPr lvl="3" marL="9051840" indent="-1292040">
              <a:spcBef>
                <a:spcPts val="4524"/>
              </a:spcBef>
              <a:buClr>
                <a:srgbClr val="000000"/>
              </a:buClr>
              <a:buFont typeface="Arial"/>
              <a:buChar char="–"/>
              <a:tabLst>
                <a:tab algn="l" pos="5172120"/>
                <a:tab algn="l" pos="1034424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  <a:p>
            <a:pPr lvl="4" marL="11639520" indent="-1293840">
              <a:spcBef>
                <a:spcPts val="4524"/>
              </a:spcBef>
              <a:buClr>
                <a:srgbClr val="000000"/>
              </a:buClr>
              <a:buFont typeface="Arial"/>
              <a:buChar char="»"/>
              <a:tabLst>
                <a:tab algn="l" pos="5172120"/>
                <a:tab algn="l" pos="1034424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  <a:p>
            <a:pPr lvl="5" marL="11639520" indent="-1293840">
              <a:spcBef>
                <a:spcPts val="4524"/>
              </a:spcBef>
              <a:buClr>
                <a:srgbClr val="000000"/>
              </a:buClr>
              <a:buFont typeface="Arial"/>
              <a:buChar char="»"/>
              <a:tabLst>
                <a:tab algn="l" pos="5172120"/>
                <a:tab algn="l" pos="1034424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  <a:p>
            <a:pPr lvl="6" marL="11639520" indent="-1293840">
              <a:spcBef>
                <a:spcPts val="4524"/>
              </a:spcBef>
              <a:buClr>
                <a:srgbClr val="000000"/>
              </a:buClr>
              <a:buFont typeface="Arial"/>
              <a:buChar char="»"/>
              <a:tabLst>
                <a:tab algn="l" pos="5172120"/>
                <a:tab algn="l" pos="1034424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0320" y="35805600"/>
            <a:ext cx="11947320" cy="273060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Autofit/>
          </a:bodyPr>
          <a:lstStyle>
            <a:lvl1pPr indent="0">
              <a:buNone/>
              <a:tabLst>
                <a:tab algn="l" pos="0"/>
                <a:tab algn="l" pos="5172120"/>
                <a:tab algn="l" pos="10344240"/>
              </a:tabLst>
              <a:defRPr b="0" lang="en-US" sz="7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172120"/>
                <a:tab algn="l" pos="10344240"/>
              </a:tabLst>
            </a:pPr>
            <a:r>
              <a:rPr b="0" lang="en-US" sz="7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96000" y="35805600"/>
            <a:ext cx="16214400" cy="273060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Autofit/>
          </a:bodyPr>
          <a:lstStyle>
            <a:lvl1pPr indent="0" algn="ctr">
              <a:buNone/>
              <a:tabLst>
                <a:tab algn="l" pos="0"/>
                <a:tab algn="l" pos="5172120"/>
                <a:tab algn="l" pos="10344240"/>
              </a:tabLst>
              <a:defRPr b="0" lang="en-US" sz="7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172120"/>
                <a:tab algn="l" pos="10344240"/>
              </a:tabLst>
            </a:pPr>
            <a:r>
              <a:rPr b="0" lang="en-US" sz="7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698040" y="35805600"/>
            <a:ext cx="11947320" cy="2730600"/>
          </a:xfrm>
          <a:prstGeom prst="rect">
            <a:avLst/>
          </a:prstGeom>
          <a:noFill/>
          <a:ln w="0">
            <a:noFill/>
          </a:ln>
        </p:spPr>
        <p:txBody>
          <a:bodyPr lIns="517320" rIns="517320" tIns="258480" bIns="258480" anchor="t">
            <a:noAutofit/>
          </a:bodyPr>
          <a:lstStyle>
            <a:lvl1pPr indent="0" algn="r">
              <a:buNone/>
              <a:tabLst>
                <a:tab algn="l" pos="0"/>
                <a:tab algn="l" pos="5172120"/>
                <a:tab algn="l" pos="10344240"/>
              </a:tabLst>
              <a:defRPr b="0" lang="en-US" sz="7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172120"/>
                <a:tab algn="l" pos="10344240"/>
              </a:tabLst>
            </a:pPr>
            <a:fld id="{5F9F41F3-29FA-498B-AE78-2FA8AAEED1E2}" type="slidenum">
              <a:rPr b="0" lang="en-US" sz="7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960" y="533520"/>
            <a:ext cx="49663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cc"/>
                </a:solidFill>
                <a:latin typeface="Arial"/>
              </a:rPr>
              <a:t>MICROVASCULAR OXYGENATION OF BRAIN CORTEX DURING ISOVOLEMIC HEMODILUTION BY EXCHANGE TRANSFUSION OF DCLHb</a:t>
            </a:r>
            <a:r>
              <a:rPr b="1" lang="en-US" sz="90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ugene P.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VOVENKO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, Aleksander S.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GOLU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Roland N.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PITTMAN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1) - </a:t>
            </a:r>
            <a:r>
              <a:rPr b="1" lang="en-US" sz="2600" spc="-1" strike="noStrike">
                <a:solidFill>
                  <a:srgbClr val="0000cc"/>
                </a:solidFill>
                <a:latin typeface="Wingdings"/>
                <a:ea typeface="Wingdings"/>
              </a:rPr>
              <a:t>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  Pavlov Institute of Physiology, nab. Makarova, bld.6, St.-Petersburg, 199034, Russia, </a:t>
            </a:r>
            <a:r>
              <a:rPr b="0" i="1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tel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: +7 (812) 3280701 Ext.141,   </a:t>
            </a:r>
            <a:r>
              <a:rPr b="0" i="1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fax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: +7 (812) 3280501,   </a:t>
            </a:r>
            <a:r>
              <a:rPr b="0" i="1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E-mail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: epv@infran.r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2) - </a:t>
            </a:r>
            <a:r>
              <a:rPr b="1" lang="en-US" sz="2600" spc="-1" strike="noStrike">
                <a:solidFill>
                  <a:srgbClr val="0000cc"/>
                </a:solidFill>
                <a:latin typeface="Wingdings"/>
                <a:ea typeface="Wingdings"/>
              </a:rPr>
              <a:t>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  Department of Physiology,  Medical College of Virginia Campus, Virginia Commonwealth University, Richmond, VA 23298,  P.O. Box 980551,  </a:t>
            </a:r>
            <a:r>
              <a:rPr b="0" i="1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tel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.: +101 (804) 8289545,    </a:t>
            </a:r>
            <a:r>
              <a:rPr b="0" i="1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fax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: +101  (804) 8287382,   </a:t>
            </a:r>
            <a:r>
              <a:rPr b="0" i="1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E-mail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: pittman@hsc.vcu.ed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1519200" cy="32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3809880"/>
            <a:ext cx="2066760" cy="181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81040" y="7923240"/>
            <a:ext cx="5791320" cy="10820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imary oxygen transport variables, oxygen tension (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blood velocity, were measured in cortical microvessels of anaesthetized rats during isovolemic hemodilution with the plasma expander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Hes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6% hetastarch; Series 1) and with the hemoglobin-based oxygen carrie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CLH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iaspirin cross-linked Hb; Baxter; USA; Series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xygen content of systemic blood was lowered by decreasing hematocrit (Hct) in three discrete steps from a control value of 43-45% to Hcts of 34%, 20%, and 10% (steps 1-3, respectively). Microvascular 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measured using a phosphorescence quenching technique. Linear velocity in cortical venules was determined using a fluorescent microsphere technique, with strobe flash illumination and frame-by-frame analysis of video recor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eries 1, hemodilution with the plasma expander to Hct=34% resulted in an increase of oxygen delivery to brain tissue, while the second step of hemodilution revealed a distinct drop of microvascular 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ncreased stress on the oxygen transport system. The third step of hemodilution resulted in signs of developing hypoxia. Analysis of oxygen variables for Series 2 showed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CLH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vides effective oxygenation of the brain tissue, so that microvascular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 was not impaired, even during severe hemodilution (Hct=1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ed by the National Heart, Lung and Blood Institute and the A.D. Williams Trust Funds (VC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127080" y="7391520"/>
            <a:ext cx="12115800" cy="10947240"/>
          </a:xfrm>
          <a:prstGeom prst="rect">
            <a:avLst/>
          </a:prstGeom>
          <a:ln w="50760">
            <a:solidFill>
              <a:srgbClr val="ff00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3260240" y="7924680"/>
            <a:ext cx="13411440" cy="536292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en male Sprague-Dawley rats, 284±7 g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b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were  anesthetized by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i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injection of Na-pentobarbital, surgery dose – 60 mg/kg, supplemental dose - 10-15 mg/kg/h. Animals were tracheotomized with plastic tubing (PE-240) to ensure proper lung ventilation; PE-90 catheters were inserted into the right femoral artery and vein for MAP monitoring, blood gas analysis sampling, blood exchange transfusion and for infusion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A closed cranial window (CCW) was made over the right parietal lobe (hemisphere). Perfusion under window was performed using a peristaltic mini-pump 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Daigger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, Inc., Lincolnshire, IL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with a rate of 0.3-0.5 ml/min. Intracranial pressure (ICP) was kept about 4-6 mm Hg by the elevation of the outflow reservo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ravital microscope (Carl Zeiss, Hawthorne, NY) equipped with a Neofluar 2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/0.60 N.A. objective was used to visualize brain cortex microvessels. Epi-illumination of the brain surface was performed using a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Fiber-Lite MI-150F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illuminator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(Dolan-Jenner Industries Inc., Lawrence, M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). The optical fibers were positioned at a 50° angle (relative to the optical axis) and two light spots were focused on the focal plane of the objectiv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18480" y="9047160"/>
            <a:ext cx="4114800" cy="984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im of the present study was to assess oxygenation of brain cortex tissue during severe hemodilution and during blood substitution therapy – an infusion of the Hb-based blood substitute DCLHb. A new experimental approach for measuring microvascular oxygen tension on brain cortical small arterioles and venules using the phosphorescence quenching technique has been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is approach two main parameters of oxygen transport to tissue (microvascular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lood velocity) in the same cortical microvessels during control conditions, isovolemic hemodilution and during infusion of the DCLHb were measured for the first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081320" y="8686800"/>
            <a:ext cx="3886200" cy="973404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Blood velocity measure-ments in venous cortical microvessels were perfor-med using fluorescent micro-spheres (FS) injected into the blood stream, flash illumination and frame-by-frame analysis of the tracks on video recordings. Fluorescent microspheres, 2 µm in diameter, type F-8827, yellow-green 505/515 nm (Molecular Probes , Inc., Eugene, OR) were injected intravenously, as a 0.1-0.2 ml bolus in a concentration of 1·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ml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quantity of particles was enough to provide measurements of linear blood velocity in venules of luminal diameter of 10-100 µm over a 2-3 minutes period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For technical reasons velocity in arterioles using FS-method was not measurabl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653320" y="9296280"/>
            <a:ext cx="4552920" cy="922032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3282560" y="14068440"/>
            <a:ext cx="13428720" cy="431280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Microvascular oxygen tension was measured using the phosphorescence quenching technique. A phosphor solution was injected intravenously at the beginning of the experiment to yield an estimated plasma concentration of 0.3-0.5 mg/ml. A xenon flash lamp (model FX-249, EG&amp;G Electro-optics Co., Salem, MA; 10 Hz flash frequency, power 2.5 J) was used for phosphor excitation. The size of the excitation window was set by a rectangular diaphragm.  The smaller dimension of the rectangular window was equal in length to the inside diameter of the vessel being measured. The emitted phosphorescence passed through a dichroic mirror and through a 630 nm cut-on filter and was detected by a photomultiplier tube (model R632, Hamamatsu Photonics, Japan). The amplified output was sent to a data acquisition board in a personal computer. Fifty decay curves (elapsed time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5 s) were collected for each measurement site in order to improve the signal-to-noise ratio through  signal averaging. Data acquisition was under the control of a LabView program (version 4.1, National Instruments, Austin, TX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9278720"/>
            <a:ext cx="3352680" cy="808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8077320"/>
            <a:ext cx="3962520" cy="6566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PECIFIC A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35120" y="6858000"/>
            <a:ext cx="3381120" cy="808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156280" y="31699080"/>
            <a:ext cx="18212040" cy="7030440"/>
          </a:xfrm>
          <a:prstGeom prst="rect">
            <a:avLst/>
          </a:prstGeom>
          <a:solidFill>
            <a:srgbClr val="f8f8f8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ew technical approach was developed to provide immediate measurements of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mall microvessels of the rat brain cortex using the phosphorescence quenching technique and blood velocity measurements in the same venules using the fluorescent microsphere tracking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ovolemic hemodilution to Hct=31-34% (mild) resulted in a significant increase of blood velocity in small cortical venules draining blood directly from capillaries. Augmentation of the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se microvessels indicated an enhancement of the oxygen supply to brain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modilution to Hct=20% (moderate) using the plasma expander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Hes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ed in a moderate fall of microvascular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nifesting an increased stress on the oxygen transport system to brain tissue. Microvascular (venular)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, however, was  close to the control values. Hemodilution (exchange transfusion) wi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CLH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ed in a venular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otal microvascula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substantially above the contro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hird step of hemodilution using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Hes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Hct=11% (severe) resulted in a further increase of venular blood velocity, while oxygen tension 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venules fell significantly (to 21 mm Hg) indicating signs of developing hypoxia. Convective venula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fell  5 times in comparison to the control level. Venula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for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CLH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oup still remained above the control value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CLH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 an oxygen carrier, provides effective oxygenation of the brain cortex in the rat, even under conditions of severe hemodi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80320" y="30403800"/>
            <a:ext cx="4876560" cy="808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33520"/>
            <a:ext cx="3124080" cy="1029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5172120"/>
                <a:tab algn="l" pos="10344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#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48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5172120"/>
                <a:tab algn="l" pos="1034424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BS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914040" y="6019920"/>
            <a:ext cx="491490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889080" y="6477120"/>
            <a:ext cx="37174320" cy="125427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6477120"/>
            <a:ext cx="11408040" cy="125330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6934320"/>
            <a:ext cx="3048120" cy="70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5172120"/>
                <a:tab algn="l" pos="1034424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BST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1833800" y="20269080"/>
            <a:ext cx="8105760" cy="86108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28600" y="21564720"/>
            <a:ext cx="7315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517212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20345400"/>
            <a:ext cx="7315200" cy="66186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5172120"/>
                <a:tab algn="l" pos="10344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5172120"/>
                <a:tab algn="l" pos="10344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male Sprague-Dawley rats were used in the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Hes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and six rats in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CLH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5172120"/>
                <a:tab algn="l" pos="10344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5172120"/>
                <a:tab algn="l" pos="10344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tep of hemodilution (moderate, Hct=31-34%) induced no significant changes in systemic variables from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5172120"/>
                <a:tab algn="l" pos="10344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step of hemodilution (mild, Hct=20%) resulted in a decrease of MAP to 121±3 mm Hg from the control value of 130±4 mm Hg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es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). Exchange transfusion with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CLH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is step resulted in an increase of MAP to 148±6 mm Hg from a control value of 133±7 mm 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5172120"/>
                <a:tab algn="l" pos="10344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step of hemodilution (severe, Hct=10-11%) produced for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es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a sharp decrease in MAP to 109±3 mm Hg; arterial 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ll to 32±1 mm Hg and arterial 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74±2 mm Hg. The DCLHb exchange transfusion during this step  resulted in elevation of mean arterial pressure to 142±5 mm Hg and in a decrease of arterial 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72±2 mm 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5172120"/>
                <a:tab algn="l" pos="10344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08520" y="20269080"/>
            <a:ext cx="182880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5172120"/>
                <a:tab algn="l" pos="10344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GUR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92720" y="19292760"/>
            <a:ext cx="182880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5172120"/>
                <a:tab algn="l" pos="10344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GUR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82320" y="19659600"/>
            <a:ext cx="182880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5172120"/>
                <a:tab algn="l" pos="10344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GU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404800" y="19659600"/>
            <a:ext cx="182880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5172120"/>
                <a:tab algn="l" pos="10344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GUR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506320" y="31699080"/>
            <a:ext cx="182880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5172120"/>
                <a:tab algn="l" pos="10344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GUR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812880" y="31546800"/>
            <a:ext cx="182880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5172120"/>
                <a:tab algn="l" pos="10344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GUR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7600" y="19964520"/>
            <a:ext cx="4343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517212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7355680"/>
            <a:ext cx="25603200" cy="436752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5172120"/>
                <a:tab algn="l" pos="10344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oxygen content  in the venular blood for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es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can be estimated according to the following expression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5172120"/>
                <a:tab algn="l" pos="1034424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Venular 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transport = Venular Blood Flow · (1.34·[Hb</a:t>
            </a:r>
            <a:r>
              <a:rPr b="1" lang="en-US" sz="1600" spc="-1" strike="noStrike" baseline="-25000">
                <a:solidFill>
                  <a:srgbClr val="0099cc"/>
                </a:solidFill>
                <a:latin typeface="Arial"/>
              </a:rPr>
              <a:t>RBC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]·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S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 baseline="60000">
                <a:solidFill>
                  <a:srgbClr val="0099cc"/>
                </a:solidFill>
                <a:latin typeface="Arial"/>
                <a:ea typeface="Arial"/>
              </a:rPr>
              <a:t>(RBC)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+</a:t>
            </a:r>
            <a:r>
              <a:rPr b="1" lang="el-GR" sz="2400" spc="-1" strike="noStrike">
                <a:solidFill>
                  <a:srgbClr val="0099cc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·P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5172120"/>
                <a:tab algn="l" pos="10344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l-GR" sz="2400" spc="-1" strike="noStrike">
                <a:solidFill>
                  <a:srgbClr val="0099cc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oxygen solubility, 0.024 ml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ml blood/mm Hg; 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[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Hb</a:t>
            </a:r>
            <a:r>
              <a:rPr b="1" lang="en-US" sz="1600" spc="-1" strike="noStrike" baseline="-25000">
                <a:solidFill>
                  <a:srgbClr val="0099cc"/>
                </a:solidFill>
                <a:latin typeface="Arial"/>
              </a:rPr>
              <a:t>RBC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hemoglobin concentration, g/dL;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S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 baseline="60000">
                <a:solidFill>
                  <a:srgbClr val="0099cc"/>
                </a:solidFill>
                <a:latin typeface="Arial"/>
                <a:ea typeface="Arial"/>
              </a:rPr>
              <a:t>(RB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saturation of hemoglobin with oxygen;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P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oxygen tension, mm Hg.  Venular blood flow was calculated assuming a circular cross-section of venular lumen. Oxygen dissociation curve was assumed to be unchangeable during the hemodilution procedure. For rat blood we have use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36 mm Hg and Hill coefficient = 2.7. For DCLHb oxygen carrier values of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32 mm Hg and Hill coefficient = 2.4 have been u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172120"/>
                <a:tab algn="l" pos="10344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172120"/>
                <a:tab algn="l" pos="10344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oxygen content  in the venular blood for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CLH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can be estimated according to the following expression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172120"/>
                <a:tab algn="l" pos="1034424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Venular 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transport = Venular Blood Flow · (1.34·[Hb</a:t>
            </a:r>
            <a:r>
              <a:rPr b="1" lang="en-US" sz="1600" spc="-1" strike="noStrike" baseline="-25000">
                <a:solidFill>
                  <a:srgbClr val="0099cc"/>
                </a:solidFill>
                <a:latin typeface="Arial"/>
              </a:rPr>
              <a:t>RBC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]·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S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 baseline="60000">
                <a:solidFill>
                  <a:srgbClr val="0099cc"/>
                </a:solidFill>
                <a:latin typeface="Arial"/>
                <a:ea typeface="Arial"/>
              </a:rPr>
              <a:t>(RBC)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+ 1.34· [Hb</a:t>
            </a:r>
            <a:r>
              <a:rPr b="1" lang="en-US" sz="1600" spc="-1" strike="noStrike" baseline="-25000">
                <a:solidFill>
                  <a:srgbClr val="0099cc"/>
                </a:solidFill>
                <a:latin typeface="Arial"/>
              </a:rPr>
              <a:t>DCLHb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]·S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</a:rPr>
              <a:t>2</a:t>
            </a:r>
            <a:r>
              <a:rPr b="1" lang="en-US" sz="1600" spc="-1" strike="noStrike" baseline="60000">
                <a:solidFill>
                  <a:srgbClr val="0099cc"/>
                </a:solidFill>
                <a:latin typeface="Arial"/>
              </a:rPr>
              <a:t>(DCLHb)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99cc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·P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172120"/>
                <a:tab algn="l" pos="10344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172120"/>
                <a:tab algn="l" pos="10344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[Hb</a:t>
            </a:r>
            <a:r>
              <a:rPr b="1" lang="en-US" sz="1600" spc="-1" strike="noStrike" baseline="-25000">
                <a:solidFill>
                  <a:srgbClr val="0099cc"/>
                </a:solidFill>
                <a:latin typeface="Arial"/>
              </a:rPr>
              <a:t>DCLHb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n-US" sz="1600" spc="-1" strike="noStrike" baseline="-25000">
                <a:solidFill>
                  <a:srgbClr val="0099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99cc"/>
                </a:solidFill>
                <a:latin typeface="Arial"/>
              </a:rPr>
              <a:t>2</a:t>
            </a:r>
            <a:r>
              <a:rPr b="1" lang="en-US" sz="1600" spc="-1" strike="noStrike" baseline="60000">
                <a:solidFill>
                  <a:srgbClr val="0099cc"/>
                </a:solidFill>
                <a:latin typeface="Arial"/>
              </a:rPr>
              <a:t>(DCLHb)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re hemoglobin concentration and oxygen saturation of hemoglobin-based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rri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CLH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nsequently.  Hemoglobin concentration in the infused DCLHb solution was 10 g/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172120"/>
                <a:tab algn="l" pos="1034424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2080320" y="20269080"/>
            <a:ext cx="8103960" cy="86108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9677520" y="19964520"/>
            <a:ext cx="9144000" cy="685800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20269080" y="20913840"/>
            <a:ext cx="10744200" cy="590868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990720" y="32308920"/>
            <a:ext cx="12344400" cy="617220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15602040" y="32164200"/>
            <a:ext cx="14039640" cy="6318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1:12:35Z</dcterms:created>
  <dc:creator>Eugene Vovenko</dc:creator>
  <dc:description/>
  <dc:language>en-US</dc:language>
  <cp:lastModifiedBy>Eugene Vovenko</cp:lastModifiedBy>
  <dcterms:modified xsi:type="dcterms:W3CDTF">2003-04-05T09:50:50Z</dcterms:modified>
  <cp:revision>27</cp:revision>
  <dc:subject/>
  <dc:title>Slide 1</dc:title>
</cp:coreProperties>
</file>