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F3E9-94CD-461E-8DA1-6BC642C4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8132-3821-4B8A-9003-73D1D6DD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0C7D-CF62-4DC9-A654-D67DE8BA8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513C-18C4-4538-9CA2-C4BFC05A8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1078-5649-47B7-A0D6-462DC9D0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3FA8-D6C5-43B9-ABEE-63B28500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D3E3-33DB-477F-8806-79E2AEEF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B928-FD99-4CA9-A7F7-5D9AFE6C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65DC-B880-4438-816C-8A94EAC8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1669-D856-4DE9-9AF4-18C4827C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F395-EF7B-4F92-9780-9E09D77B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B256-E4D0-46C6-9804-A5436AA8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560" y="6305040"/>
            <a:ext cx="4190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9914-76FB-46CC-900E-19AC88E44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2962440"/>
            <a:ext cx="710244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VOVENKO E.</a:t>
            </a:r>
            <a:r>
              <a:rPr b="0" lang="fr-FR" sz="2800" spc="-1" strike="noStrike" baseline="30000">
                <a:solidFill>
                  <a:srgbClr val="fa0c06"/>
                </a:solidFill>
                <a:latin typeface="Wingdings"/>
                <a:ea typeface="Wingdings"/>
              </a:rPr>
              <a:t></a:t>
            </a:r>
            <a:r>
              <a:rPr b="0" lang="fr-FR" sz="2800" spc="-1" strike="noStrike" baseline="30000">
                <a:solidFill>
                  <a:srgbClr val="fa0c06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fa0c06"/>
                </a:solidFill>
                <a:latin typeface="Times New Roman"/>
                <a:ea typeface="Times New Roman"/>
              </a:rPr>
              <a:t>, 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GOLUB A.</a:t>
            </a:r>
            <a:r>
              <a:rPr b="0" lang="fr-FR" sz="2800" spc="-1" strike="noStrike" baseline="30000">
                <a:solidFill>
                  <a:srgbClr val="fa0c06"/>
                </a:solidFill>
                <a:latin typeface="Wingdings"/>
                <a:ea typeface="Wingdings"/>
              </a:rPr>
              <a:t></a:t>
            </a:r>
            <a:r>
              <a:rPr b="0" lang="fr-FR" sz="2800" spc="-1" strike="noStrike" baseline="30000">
                <a:solidFill>
                  <a:srgbClr val="fa0c06"/>
                </a:solidFill>
                <a:latin typeface="Times New Roman"/>
                <a:ea typeface="Times New Roman"/>
              </a:rPr>
              <a:t>)</a:t>
            </a:r>
            <a:r>
              <a:rPr b="0" lang="fr-FR" sz="2800" spc="-1" strike="noStrike">
                <a:solidFill>
                  <a:srgbClr val="fa0c06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fa0c06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ITTMAN R.</a:t>
            </a:r>
            <a:r>
              <a:rPr b="0" lang="fr-FR" sz="2800" spc="-1" strike="noStrike" baseline="30000">
                <a:solidFill>
                  <a:srgbClr val="fa0c06"/>
                </a:solidFill>
                <a:latin typeface="Wingdings"/>
                <a:ea typeface="Wingdings"/>
              </a:rPr>
              <a:t></a:t>
            </a:r>
            <a:r>
              <a:rPr b="0" lang="fr-FR" sz="2800" spc="-1" strike="noStrike" baseline="30000">
                <a:solidFill>
                  <a:srgbClr val="fa0c06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6760" y="533520"/>
            <a:ext cx="8420040" cy="207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ICROVASCULAR PO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AND BLOOD VELOCITY MEASUREMENTS IN RAT BRAIN CORTEX DURING NORMOVOLEMIC HEMODILUTIO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 PLASMA EXPANDER (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SPAN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ND A  HEMOGLOBIN-BASED OXYGEN CARRIER (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LHb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Resize%20of%20pavlov_logo" descr=""/>
          <p:cNvPicPr/>
          <p:nvPr/>
        </p:nvPicPr>
        <p:blipFill>
          <a:blip r:embed="rId2"/>
          <a:stretch/>
        </p:blipFill>
        <p:spPr>
          <a:xfrm>
            <a:off x="304920" y="3772080"/>
            <a:ext cx="1058760" cy="2266920"/>
          </a:xfrm>
          <a:prstGeom prst="rect">
            <a:avLst/>
          </a:prstGeom>
          <a:ln w="0">
            <a:noFill/>
          </a:ln>
        </p:spPr>
      </p:pic>
      <p:pic>
        <p:nvPicPr>
          <p:cNvPr id="44" name="vcu_LOGO1a" descr=""/>
          <p:cNvPicPr/>
          <p:nvPr/>
        </p:nvPicPr>
        <p:blipFill>
          <a:blip r:embed="rId3"/>
          <a:stretch/>
        </p:blipFill>
        <p:spPr>
          <a:xfrm>
            <a:off x="6821640" y="4443480"/>
            <a:ext cx="1812600" cy="1596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23880" y="4552920"/>
            <a:ext cx="4953240" cy="12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baseline="30000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0" lang="fr-FR" sz="1800" spc="-1" strike="noStrike" baseline="30000">
                <a:solidFill>
                  <a:srgbClr val="ff33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vlov Institute of Physiology, St. Petersburg, RUSSIA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</a:t>
            </a:r>
            <a:r>
              <a:rPr b="0" lang="fr-FR" sz="1200" spc="-1" strike="noStrike" baseline="30000">
                <a:solidFill>
                  <a:srgbClr val="ff3300"/>
                </a:solidFill>
                <a:latin typeface="Arial"/>
                <a:ea typeface="Times New Roman"/>
              </a:rPr>
              <a:t>)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artment of Physiology, Medical College of Virginia Campus, Virginia Commonwealth University, Richmond, the U.S.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385920"/>
            <a:ext cx="8610480" cy="5836680"/>
          </a:xfrm>
          <a:prstGeom prst="rect">
            <a:avLst/>
          </a:prstGeom>
          <a:noFill/>
          <a:ln w="7632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in Oxygenation during Hemodilu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3970-039F-43B1-8043-F27CC3E9C48D}" type="slidenum">
              <a:t>1</a:t>
            </a:fld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47640" y="228600"/>
            <a:ext cx="7848720" cy="6514200"/>
          </a:xfrm>
          <a:prstGeom prst="rect">
            <a:avLst/>
          </a:prstGeom>
          <a:noFill/>
          <a:ln w="7632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MATIC DIAGRAM OF SE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exp_setup_Fin" descr=""/>
          <p:cNvPicPr/>
          <p:nvPr/>
        </p:nvPicPr>
        <p:blipFill>
          <a:blip r:embed="rId2"/>
          <a:stretch/>
        </p:blipFill>
        <p:spPr>
          <a:xfrm>
            <a:off x="1676520" y="811080"/>
            <a:ext cx="5867280" cy="530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in Oxygenation during Hemodilu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E0E0-316E-4069-9D53-741EDD9E430C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380880"/>
            <a:ext cx="8534160" cy="5921640"/>
          </a:xfrm>
          <a:prstGeom prst="rect">
            <a:avLst/>
          </a:prstGeom>
          <a:noFill/>
          <a:ln w="7632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ood Velocities in Pial Venules during Hemodilution with HESPAN and DCLH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fig3g" descr=""/>
          <p:cNvPicPr/>
          <p:nvPr/>
        </p:nvPicPr>
        <p:blipFill>
          <a:blip r:embed="rId2"/>
          <a:stretch/>
        </p:blipFill>
        <p:spPr>
          <a:xfrm>
            <a:off x="2133720" y="1371600"/>
            <a:ext cx="4217760" cy="48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in Oxygenation during Hemodilu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9F77-6847-4F02-86D9-7AEA4CCF5992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457200"/>
            <a:ext cx="8305920" cy="6192360"/>
          </a:xfrm>
          <a:prstGeom prst="rect">
            <a:avLst/>
          </a:prstGeom>
          <a:noFill/>
          <a:ln w="7632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ESPAN – PO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vs H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fig1" descr=""/>
          <p:cNvPicPr/>
          <p:nvPr/>
        </p:nvPicPr>
        <p:blipFill>
          <a:blip r:embed="rId2"/>
          <a:stretch/>
        </p:blipFill>
        <p:spPr>
          <a:xfrm>
            <a:off x="2654280" y="1117440"/>
            <a:ext cx="4176720" cy="503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in Oxygenation during Hemodilu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4C8F-4B4B-4423-9A36-2CEEEC2709DE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380880"/>
            <a:ext cx="8077320" cy="5914440"/>
          </a:xfrm>
          <a:prstGeom prst="rect">
            <a:avLst/>
          </a:prstGeom>
          <a:noFill/>
          <a:ln w="7632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CLHb – PO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vs H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fig2a" descr=""/>
          <p:cNvPicPr/>
          <p:nvPr/>
        </p:nvPicPr>
        <p:blipFill>
          <a:blip r:embed="rId2"/>
          <a:stretch/>
        </p:blipFill>
        <p:spPr>
          <a:xfrm>
            <a:off x="2635200" y="957240"/>
            <a:ext cx="4052880" cy="517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in Oxygenation during Hemodilu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1B83-7DDE-421C-9228-C3BCAB3A09B1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533520"/>
            <a:ext cx="8153280" cy="5658480"/>
          </a:xfrm>
          <a:prstGeom prst="rect">
            <a:avLst/>
          </a:prstGeom>
          <a:noFill/>
          <a:ln w="7632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EMODI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ELOC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progressive increase (Hesp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to plateau (DCLH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O</a:t>
            </a:r>
            <a:r>
              <a:rPr b="1" lang="en-US" sz="22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progressive decrease (Hesp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ximately constant (DCLH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in Oxygenation during Hemodilu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B828-194F-4BA6-860B-A6A9F6A7E2D4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3520" y="685800"/>
            <a:ext cx="8076960" cy="5396760"/>
          </a:xfrm>
          <a:prstGeom prst="rect">
            <a:avLst/>
          </a:prstGeom>
          <a:noFill/>
          <a:ln w="7632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LHb provides effective oxygenation of the brain cortex in the rat, even under conditions of severe hemodi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in Oxygenation during Hemodilu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F08E-43CA-4F07-A9D9-6240B0124422}" type="slidenum">
              <a:t>15</a:t>
            </a:fld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457200"/>
            <a:ext cx="8229600" cy="3166920"/>
          </a:xfrm>
          <a:prstGeom prst="rect">
            <a:avLst/>
          </a:prstGeom>
          <a:noFill/>
          <a:ln w="7632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work was supported in part by  the National Heart, Lung and Blood Institute, and the A.D. Williams Trust Funds (Virginia Commonwealth Universit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flashingcolourbar" descr=""/>
          <p:cNvPicPr/>
          <p:nvPr/>
        </p:nvPicPr>
        <p:blipFill>
          <a:blip r:embed="rId2"/>
          <a:stretch/>
        </p:blipFill>
        <p:spPr>
          <a:xfrm>
            <a:off x="1143000" y="1123920"/>
            <a:ext cx="6858000" cy="11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7200" y="3962520"/>
            <a:ext cx="8229600" cy="226728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    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ADDRESSES for CORRESPOND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ugene VOVENK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venko@infran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oland PITTM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ttman@hsc.vcu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mail_2" descr=""/>
          <p:cNvPicPr/>
          <p:nvPr/>
        </p:nvPicPr>
        <p:blipFill>
          <a:blip r:embed="rId3"/>
          <a:stretch/>
        </p:blipFill>
        <p:spPr>
          <a:xfrm>
            <a:off x="571680" y="4114800"/>
            <a:ext cx="685800" cy="34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in Oxygenation during Hemodilu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D262-ED32-445C-B249-848D72A20B1E}" type="slidenum">
              <a:t>16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380880"/>
            <a:ext cx="8305920" cy="5780880"/>
          </a:xfrm>
          <a:prstGeom prst="rect">
            <a:avLst/>
          </a:prstGeom>
          <a:noFill/>
          <a:ln w="7632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XYGEN SUPPLY TO BRAIN T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crocirculation of brain cortex in r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asurements in single microvess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xygen tension 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in arterioles and ven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locity in venu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in Oxygenation during Hemodilu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4DA8-6332-4014-BAAD-A9FD21D88FE6}" type="slidenum">
              <a:t>2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380880"/>
            <a:ext cx="8305920" cy="6229800"/>
          </a:xfrm>
          <a:prstGeom prst="rect">
            <a:avLst/>
          </a:prstGeom>
          <a:noFill/>
          <a:ln w="7632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YGEN SUPPLY IN BRAIN TISSUE:</a:t>
            </a:r>
            <a:r>
              <a:rPr b="1" lang="en-US" sz="32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ORMOVOLEMIC HEMODI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ovolemic hemodi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d systemic hematocrit (H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dilutio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H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cosit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rrying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ivery = Flow x [O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in Oxygenation during Hemodilu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74DE-955A-4B2A-ADC7-2243EB336EA4}" type="slidenum">
              <a:t>3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304920"/>
            <a:ext cx="8229600" cy="5587200"/>
          </a:xfrm>
          <a:prstGeom prst="rect">
            <a:avLst/>
          </a:prstGeom>
          <a:noFill/>
          <a:ln w="7632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AL PR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e, Sprague-Dawley r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dy weight = 280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(SE) g,  n =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 cranial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8dd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in Oxygenation during Hemodilu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2C98-E345-49B4-9A4C-665A40014CF4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714240"/>
            <a:ext cx="8229600" cy="5582160"/>
          </a:xfrm>
          <a:prstGeom prst="rect">
            <a:avLst/>
          </a:prstGeom>
          <a:noFill/>
          <a:ln w="7632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 CRANIAL 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right parietal co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ck CSF-superfused cortical surface (0.3 – 0.4 ml/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cranial pressure  (4 – 6 mm H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in Oxygenation during Hemodilu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CB38-1956-4C65-82AA-70F8FA80860B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457200"/>
            <a:ext cx="8076960" cy="5739120"/>
          </a:xfrm>
          <a:prstGeom prst="rect">
            <a:avLst/>
          </a:prstGeom>
          <a:noFill/>
          <a:ln w="7632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YGEN TENSION MEASU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sphorescence quenching micros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ladium meso-tetra [4-carboxyphenyl] porp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vascular injection (plasma concentration of  0.3-0.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/ml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etime of phosphorescence dec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Stern-Volmer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in Oxygenation during Hemodilu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27EA-0AF1-443C-9136-F889ECDF6190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76280" y="457200"/>
            <a:ext cx="8286840" cy="5888160"/>
          </a:xfrm>
          <a:prstGeom prst="rect">
            <a:avLst/>
          </a:prstGeom>
          <a:noFill/>
          <a:ln w="7632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OCITY MEASU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3300"/>
              </a:buClr>
              <a:buSzPct val="130000"/>
              <a:buFont typeface="Web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orescent microspheres,  2 µm in diameter, yellow-g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5/515 nm (Molecular Probes , Inc., Eugene, O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jection of 0.1-0.2 ml bolus in a concentration of 1·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8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3300"/>
              </a:buClr>
              <a:buSzPct val="130000"/>
              <a:buFont typeface="Web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Hz flash illu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3300"/>
              </a:buClr>
              <a:buSzPct val="130000"/>
              <a:buFont typeface="Web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 distance traveled between flas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9900"/>
              </a:buClr>
              <a:buSzPct val="130000"/>
              <a:buFont typeface="Web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9900"/>
              </a:buClr>
              <a:buSzPct val="130000"/>
              <a:buFont typeface="Web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9900"/>
              </a:buClr>
              <a:buSzPct val="130000"/>
              <a:buFont typeface="Web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FSs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8001000" cy="266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in Oxygenation during Hemodilu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4BBB-EBC1-40AB-9510-2247AA850959}" type="slidenum">
              <a:t>7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76280" y="476280"/>
            <a:ext cx="8229600" cy="5518440"/>
          </a:xfrm>
          <a:prstGeom prst="rect">
            <a:avLst/>
          </a:prstGeom>
          <a:noFill/>
          <a:ln w="7632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VOLEMIC HEMODILUTION PROCED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taneous infusion/withdrawal of hemodiluent/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usion/withdrawal rate = 0.6 ml/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t steps:  42 (control),  34,  20,  1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in Oxygenation during Hemodilu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5881-2785-4322-8A0A-EDAB4F6C90AA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76280" y="438120"/>
            <a:ext cx="8248680" cy="5594760"/>
          </a:xfrm>
          <a:prstGeom prst="rect">
            <a:avLst/>
          </a:prstGeom>
          <a:noFill/>
          <a:ln w="7632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VOLEMIC HEMODILUTION FLU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SPAN  (6% Hetastarch) –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Plasma exp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LHb (diaspirin cross-linked hemoglobin; Bax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globin Therapeutics) –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Hemoglobin-based oxy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arrier (HBOC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ain Oxygenation during Hemodilu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BCBF-6A1E-4A1B-ABB2-8B130DB7EE4A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9T21:25:38Z</dcterms:created>
  <dc:creator>Eugene Vovenko</dc:creator>
  <dc:description/>
  <dc:language>en-US</dc:language>
  <cp:lastModifiedBy>Eugene Vovenko</cp:lastModifiedBy>
  <dcterms:modified xsi:type="dcterms:W3CDTF">2002-08-21T19:02:05Z</dcterms:modified>
  <cp:revision>25</cp:revision>
  <dc:subject/>
  <dc:title>PowerPoint Presentation</dc:title>
</cp:coreProperties>
</file>