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51206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976-E68B-4E5E-96DB-00557B89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-360"/>
            <a:ext cx="27203400" cy="975348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ctr">
            <a:noAutofit/>
          </a:bodyPr>
          <a:p>
            <a:pPr indent="0" algn="ctr">
              <a:buNone/>
              <a:tabLst>
                <a:tab algn="l" pos="0"/>
                <a:tab algn="l" pos="5570640"/>
              </a:tabLst>
            </a:pPr>
            <a:endParaRPr b="0" lang="en-US" sz="2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13791960"/>
            <a:ext cx="27203400" cy="1465524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29839680"/>
            <a:ext cx="27203400" cy="1465524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7316-A609-4A11-95A1-298C37E3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-360"/>
            <a:ext cx="27203400" cy="975348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ctr">
            <a:noAutofit/>
          </a:bodyPr>
          <a:p>
            <a:pPr indent="0" algn="ctr">
              <a:buNone/>
              <a:tabLst>
                <a:tab algn="l" pos="0"/>
                <a:tab algn="l" pos="5570640"/>
              </a:tabLst>
            </a:pPr>
            <a:endParaRPr b="0" lang="en-US" sz="2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13791960"/>
            <a:ext cx="13275000" cy="1465524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13791960"/>
            <a:ext cx="13275000" cy="1465524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29839680"/>
            <a:ext cx="13275000" cy="1465524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29839680"/>
            <a:ext cx="13275000" cy="1465524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1F6-9405-4DF1-845A-602E66E6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-360"/>
            <a:ext cx="27203400" cy="975348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ctr">
            <a:noAutofit/>
          </a:bodyPr>
          <a:p>
            <a:pPr indent="0" algn="ctr">
              <a:buNone/>
              <a:tabLst>
                <a:tab algn="l" pos="0"/>
                <a:tab algn="l" pos="5570640"/>
              </a:tabLst>
            </a:pPr>
            <a:endParaRPr b="0" lang="en-US" sz="2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13791960"/>
            <a:ext cx="8759160" cy="1465524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13791960"/>
            <a:ext cx="8759160" cy="1465524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13791960"/>
            <a:ext cx="8759160" cy="1465524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29839680"/>
            <a:ext cx="8759160" cy="1465524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29839680"/>
            <a:ext cx="8759160" cy="1465524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29839680"/>
            <a:ext cx="8759160" cy="1465524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6379-1F59-4CCA-9478-2273B71A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-360"/>
            <a:ext cx="27203400" cy="975348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ctr">
            <a:noAutofit/>
          </a:bodyPr>
          <a:p>
            <a:pPr indent="0" algn="ctr">
              <a:buNone/>
              <a:tabLst>
                <a:tab algn="l" pos="0"/>
                <a:tab algn="l" pos="5570640"/>
              </a:tabLst>
            </a:pPr>
            <a:endParaRPr b="0" lang="en-US" sz="2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13791960"/>
            <a:ext cx="27203400" cy="30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876"/>
              </a:spcBef>
              <a:buNone/>
              <a:tabLst>
                <a:tab algn="l" pos="0"/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4172-591F-40BF-B8A3-0C5F049F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-360"/>
            <a:ext cx="27203400" cy="975348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ctr">
            <a:noAutofit/>
          </a:bodyPr>
          <a:p>
            <a:pPr indent="0" algn="ctr">
              <a:buNone/>
              <a:tabLst>
                <a:tab algn="l" pos="0"/>
                <a:tab algn="l" pos="5570640"/>
              </a:tabLst>
            </a:pPr>
            <a:endParaRPr b="0" lang="en-US" sz="2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13791960"/>
            <a:ext cx="27203400" cy="3072420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1D0C-32D5-436F-8756-9C9B5B88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-360"/>
            <a:ext cx="27203400" cy="975348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ctr">
            <a:noAutofit/>
          </a:bodyPr>
          <a:p>
            <a:pPr indent="0" algn="ctr">
              <a:buNone/>
              <a:tabLst>
                <a:tab algn="l" pos="0"/>
                <a:tab algn="l" pos="5570640"/>
              </a:tabLst>
            </a:pPr>
            <a:endParaRPr b="0" lang="en-US" sz="2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13791960"/>
            <a:ext cx="13275000" cy="3072420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13791960"/>
            <a:ext cx="13275000" cy="3072420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C7D0-5F32-4692-A994-070297FD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-360"/>
            <a:ext cx="27203400" cy="975348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ctr">
            <a:noAutofit/>
          </a:bodyPr>
          <a:p>
            <a:pPr indent="0" algn="ctr">
              <a:buNone/>
              <a:tabLst>
                <a:tab algn="l" pos="0"/>
                <a:tab algn="l" pos="5570640"/>
              </a:tabLst>
            </a:pPr>
            <a:endParaRPr b="0" lang="en-US" sz="2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B962-3E05-4CC0-B4F7-29D3E8C3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-360"/>
            <a:ext cx="27203400" cy="45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876"/>
              </a:spcBef>
              <a:tabLst>
                <a:tab algn="l" pos="0"/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C6F4-38D9-4013-A33A-B575A746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-360"/>
            <a:ext cx="27203400" cy="975348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ctr">
            <a:noAutofit/>
          </a:bodyPr>
          <a:p>
            <a:pPr indent="0" algn="ctr">
              <a:buNone/>
              <a:tabLst>
                <a:tab algn="l" pos="0"/>
                <a:tab algn="l" pos="5570640"/>
              </a:tabLst>
            </a:pPr>
            <a:endParaRPr b="0" lang="en-US" sz="2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13791960"/>
            <a:ext cx="13275000" cy="1465524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13791960"/>
            <a:ext cx="13275000" cy="3072420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29839680"/>
            <a:ext cx="13275000" cy="1465524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C179-FA0B-4F33-9E48-2434ADF4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-360"/>
            <a:ext cx="27203400" cy="975348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ctr">
            <a:noAutofit/>
          </a:bodyPr>
          <a:p>
            <a:pPr indent="0" algn="ctr">
              <a:buNone/>
              <a:tabLst>
                <a:tab algn="l" pos="0"/>
                <a:tab algn="l" pos="5570640"/>
              </a:tabLst>
            </a:pPr>
            <a:endParaRPr b="0" lang="en-US" sz="2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13791960"/>
            <a:ext cx="13275000" cy="3072420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13791960"/>
            <a:ext cx="13275000" cy="1465524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29839680"/>
            <a:ext cx="13275000" cy="1465524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389B-632A-493F-ACBD-1E291537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-360"/>
            <a:ext cx="27203400" cy="975348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ctr">
            <a:noAutofit/>
          </a:bodyPr>
          <a:p>
            <a:pPr indent="0" algn="ctr">
              <a:buNone/>
              <a:tabLst>
                <a:tab algn="l" pos="0"/>
                <a:tab algn="l" pos="5570640"/>
              </a:tabLst>
            </a:pPr>
            <a:endParaRPr b="0" lang="en-US" sz="2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13791960"/>
            <a:ext cx="13275000" cy="1465524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13791960"/>
            <a:ext cx="13275000" cy="1465524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29839680"/>
            <a:ext cx="27203400" cy="1465524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/>
          </a:bodyPr>
          <a:p>
            <a:pPr indent="0">
              <a:spcBef>
                <a:spcPts val="4876"/>
              </a:spcBef>
              <a:buNone/>
              <a:tabLst>
                <a:tab algn="l" pos="5570640"/>
              </a:tabLst>
            </a:pP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DC0-5978-43FD-B7A4-87EE31AF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-360"/>
            <a:ext cx="27203400" cy="975348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ctr">
            <a:noAutofit/>
          </a:bodyPr>
          <a:p>
            <a:pPr indent="0" algn="ctr">
              <a:buNone/>
              <a:tabLst>
                <a:tab algn="l" pos="0"/>
                <a:tab algn="l" pos="5570640"/>
              </a:tabLst>
            </a:pPr>
            <a:r>
              <a:rPr b="0" lang="en-US" sz="26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13791960"/>
            <a:ext cx="27203400" cy="3072420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rmAutofit fontScale="82000"/>
          </a:bodyPr>
          <a:p>
            <a:pPr marL="1712880" indent="-1712880">
              <a:spcBef>
                <a:spcPts val="4876"/>
              </a:spcBef>
              <a:buClr>
                <a:srgbClr val="000000"/>
              </a:buClr>
              <a:buFont typeface="Times New Roman"/>
              <a:buChar char="•"/>
              <a:tabLst>
                <a:tab algn="l" pos="5570640"/>
              </a:tabLst>
            </a:pPr>
            <a:r>
              <a:rPr b="0" lang="en-US" sz="1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6640" indent="-1427760">
              <a:spcBef>
                <a:spcPts val="4876"/>
              </a:spcBef>
              <a:buClr>
                <a:srgbClr val="000000"/>
              </a:buClr>
              <a:buFont typeface="Times New Roman"/>
              <a:buChar char="–"/>
              <a:tabLst>
                <a:tab algn="l" pos="5570640"/>
              </a:tabLst>
            </a:pPr>
            <a:r>
              <a:rPr b="0" lang="en-US" sz="1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2160" indent="-1141200">
              <a:spcBef>
                <a:spcPts val="4876"/>
              </a:spcBef>
              <a:buClr>
                <a:srgbClr val="000000"/>
              </a:buClr>
              <a:buFont typeface="Times New Roman"/>
              <a:buChar char="•"/>
              <a:tabLst>
                <a:tab algn="l" pos="5570640"/>
              </a:tabLst>
            </a:pPr>
            <a:r>
              <a:rPr b="0" lang="en-US" sz="1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  <a:p>
            <a:pPr lvl="3" marL="8070480" indent="-1141200">
              <a:spcBef>
                <a:spcPts val="4876"/>
              </a:spcBef>
              <a:buClr>
                <a:srgbClr val="000000"/>
              </a:buClr>
              <a:buFont typeface="Times New Roman"/>
              <a:buChar char="–"/>
              <a:tabLst>
                <a:tab algn="l" pos="5570640"/>
              </a:tabLst>
            </a:pPr>
            <a:r>
              <a:rPr b="0" lang="en-US" sz="1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75840" indent="-1141200">
              <a:spcBef>
                <a:spcPts val="4876"/>
              </a:spcBef>
              <a:buClr>
                <a:srgbClr val="000000"/>
              </a:buClr>
              <a:buFont typeface="Times New Roman"/>
              <a:buChar char="»"/>
              <a:tabLst>
                <a:tab algn="l" pos="5570640"/>
              </a:tabLst>
            </a:pPr>
            <a:r>
              <a:rPr b="0" lang="en-US" sz="1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0275840" indent="-1141200">
              <a:spcBef>
                <a:spcPts val="4876"/>
              </a:spcBef>
              <a:buClr>
                <a:srgbClr val="000000"/>
              </a:buClr>
              <a:buFont typeface="Times New Roman"/>
              <a:buChar char="»"/>
              <a:tabLst>
                <a:tab algn="l" pos="5570640"/>
              </a:tabLst>
            </a:pPr>
            <a:r>
              <a:rPr b="0" lang="en-US" sz="1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0275840" indent="-1141200">
              <a:spcBef>
                <a:spcPts val="4876"/>
              </a:spcBef>
              <a:buClr>
                <a:srgbClr val="000000"/>
              </a:buClr>
              <a:buFont typeface="Times New Roman"/>
              <a:buChar char="»"/>
              <a:tabLst>
                <a:tab algn="l" pos="5570640"/>
              </a:tabLst>
            </a:pPr>
            <a:r>
              <a:rPr b="0" lang="en-US" sz="1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46654560"/>
            <a:ext cx="6667200" cy="341316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Autofit/>
          </a:bodyPr>
          <a:lstStyle>
            <a:lvl1pPr indent="0">
              <a:buNone/>
              <a:tabLst>
                <a:tab algn="l" pos="0"/>
                <a:tab algn="l" pos="5570640"/>
              </a:tabLst>
              <a:defRPr b="0" lang="en-US" sz="8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57064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46654560"/>
            <a:ext cx="10134720" cy="341316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Autofit/>
          </a:bodyPr>
          <a:lstStyle>
            <a:lvl1pPr indent="0" algn="ctr">
              <a:buNone/>
              <a:tabLst>
                <a:tab algn="l" pos="0"/>
                <a:tab algn="l" pos="5570640"/>
              </a:tabLst>
              <a:defRPr b="0" lang="en-US" sz="8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57064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46654560"/>
            <a:ext cx="6667560" cy="3413160"/>
          </a:xfrm>
          <a:prstGeom prst="rect">
            <a:avLst/>
          </a:prstGeom>
          <a:noFill/>
          <a:ln w="0">
            <a:noFill/>
          </a:ln>
        </p:spPr>
        <p:txBody>
          <a:bodyPr lIns="556920" rIns="556920" tIns="278640" bIns="278640" anchor="t">
            <a:noAutofit/>
          </a:bodyPr>
          <a:lstStyle>
            <a:lvl1pPr indent="0" algn="r">
              <a:buNone/>
              <a:tabLst>
                <a:tab algn="l" pos="0"/>
                <a:tab algn="l" pos="5570640"/>
              </a:tabLst>
              <a:defRPr b="0" lang="en-US" sz="8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570640"/>
              </a:tabLst>
            </a:pPr>
            <a:fld id="{64BB865D-8A3E-434D-9B26-FE6363A46624}" type="slidenum">
              <a:rPr b="0" lang="en-US" sz="8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9960" y="533520"/>
            <a:ext cx="30965760" cy="65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 algn="ctr">
              <a:spcBef>
                <a:spcPts val="4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XYGEN TENSION AND  BLOOD VELOCITY MEASUREMENTS  IN SINGLE CORTICAL MICROVESSELS DURING NORMOVOLEMIC HEMODILUTION  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gene P.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VENKO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leksander S.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UB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land N.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ITTMAN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) - </a:t>
            </a:r>
            <a:r>
              <a:rPr b="1" lang="en-US" sz="2800" spc="-1" strike="noStrike">
                <a:solidFill>
                  <a:srgbClr val="0000cc"/>
                </a:solidFill>
                <a:latin typeface="Wingdings"/>
                <a:ea typeface="Wingdings"/>
              </a:rPr>
              <a:t>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Pavlov Institute of Physiology, nab. Makarova, bld.6, St.-Petersburg, 199034, Russia,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el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 +7 (812) 3280701 Ext.141,  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ax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 +7 (812) 3280501,  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-mail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 epv@infran.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) - </a:t>
            </a:r>
            <a:r>
              <a:rPr b="1" lang="en-US" sz="2800" spc="-1" strike="noStrike">
                <a:solidFill>
                  <a:srgbClr val="0000cc"/>
                </a:solidFill>
                <a:latin typeface="Wingdings"/>
                <a:ea typeface="Wingdings"/>
              </a:rPr>
              <a:t>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Department of Physiology,  Medical College of Virginia Campus, Virginia Commonwealth University, Richmond, VA 23298,  P.O. Box 980551, 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el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: +101 (804) 8289545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ax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 +101  (804) 8287382,  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-mail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 pittman@hsc.vcu.e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8458200"/>
            <a:ext cx="7010640" cy="89154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BSTR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measured Po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blood velocity on the same (single) venules (18.6±2 µm, mean±SE) of rat brain cortex during normovolemic hemodilution (exchange transfusion with 6% hetastarch, "HESPAN"). The phosphorescence quenching technique was applied for intravascular Po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asurements. Blood velocity in venules was assessed using 2 µm diameter fluorescent microspheres, 100 Hz flash illumination and frame-by-frame analysis of video recording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control (Hct=44%, MAP=130±4 mm Hg) venular Po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s 38.5±3.0 mm Hg and blood velocity was 1109±108 µm/s. The first step of hemodilution (Hct=34%, MAP=131±3 mm Hg) resulted in a significant increase of microvascular Po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43.3±3.0 mm Hg) and blood velocity (1560±150 µm/s). The second step of hemodilution (Hct=20%, MAP=121±3 mm Hg) was accompanied by a moderate fall of microvascular Po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34.1±2.2 mm Hg) relative to the control level and an increase in venular blood velocity (2271±220 µm/s). The third step of hemodilution (Hct=11%, MAP=109±3 mmHg) induced a sharp decrease in venular Po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1±3 mm Hg), while blood velocity in venules increased steadily to 2433±144 µm/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onclusion, the first step (mild) of hemodilution resulted in a significant increase of oxygen deliver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rain tissue, while the second (moderate) and especially third steps (severe) indicated increased stress on the oxygen transport system and signs of developing hypox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9202400"/>
            <a:ext cx="6981840" cy="6944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dilution is widely used in clinical medicine (vascular, cardiac surgery, orthopedics, etc.). Replacing  whole blood with a crystalloid fluid reduces blood viscosity, improves cerebral blood flow and enhances oxygen delivery to tissue, minimizing disturbances at the microcirculatory level [1,4]. Few studies, however, focus on the effect of anemia on brain oxygenation at the level of tiny microvessels, where the bulk of oxygen exchange between blood and tissue take pl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 aim of the present work was to develop a new experimental approach for measuring microvascular oxygen tension on small brain cortical arterioles and venules using the phosphorescence quenching technique.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Using this approach two main parameters of oxygen transport to tissue (microvascular pO</a:t>
            </a:r>
            <a:r>
              <a:rPr b="1" lang="en-US" sz="2400" spc="-1" strike="noStrike" baseline="-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and blood velocity) in the same microvessels of brain tissue during control conditions and during isovolemic hemodilution were measured for the first time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exp_setup_Fin" descr=""/>
          <p:cNvPicPr/>
          <p:nvPr/>
        </p:nvPicPr>
        <p:blipFill>
          <a:blip r:embed="rId1"/>
          <a:stretch/>
        </p:blipFill>
        <p:spPr>
          <a:xfrm>
            <a:off x="13182480" y="9220320"/>
            <a:ext cx="12725640" cy="11498040"/>
          </a:xfrm>
          <a:prstGeom prst="rect">
            <a:avLst/>
          </a:prstGeom>
          <a:ln w="50760">
            <a:solidFill>
              <a:srgbClr val="ff00ff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609480" y="26593920"/>
            <a:ext cx="3353040" cy="87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ESUL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7983080"/>
            <a:ext cx="4915080" cy="808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just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66"/>
                </a:solidFill>
                <a:latin typeface="Times New Roman"/>
              </a:rPr>
              <a:t>SPECIFIC AIM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05920" y="8381880"/>
            <a:ext cx="3381120" cy="808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just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METHOD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fig4complete" descr=""/>
          <p:cNvPicPr/>
          <p:nvPr/>
        </p:nvPicPr>
        <p:blipFill>
          <a:blip r:embed="rId2"/>
          <a:stretch/>
        </p:blipFill>
        <p:spPr>
          <a:xfrm>
            <a:off x="838080" y="44272080"/>
            <a:ext cx="10841040" cy="5962680"/>
          </a:xfrm>
          <a:prstGeom prst="rect">
            <a:avLst/>
          </a:prstGeom>
          <a:ln w="28440">
            <a:solidFill>
              <a:srgbClr val="cc00ff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20269080" y="36423720"/>
            <a:ext cx="10873080" cy="7506720"/>
          </a:xfrm>
          <a:prstGeom prst="rect">
            <a:avLst/>
          </a:prstGeom>
          <a:noFill/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volemic hemodilution  to Hct=34%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resulted in a significant increase of blood velocity (and blood flow) in small cortical venules draining blood directly from capillaries. Augmentation of the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same microvessels indicated an enhancement of the oxygen supply to brain tiss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dilution to Hct=20%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dicated increased stress on the oxygen transport system  to brain tissue. Microvascular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s close to the control values, while blood velocity in venules was significantly eleva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ird step of hemodilution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Hct=10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ed in a further increase of venular blood velocity, while oxygen tension 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e venu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ll significantly, indicating signs of developing hypox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technical appro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s developed to provide immediate measurements of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small cortical microvessels  using the phosphorescence quenching technique, and measurements of blood velocity in the same venules using  the fluorescent FluoSphere tracking techn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774560" y="36671400"/>
            <a:ext cx="5143680" cy="808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just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CONCLUSIO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9524880"/>
            <a:ext cx="4130640" cy="16392960"/>
          </a:xfrm>
          <a:prstGeom prst="rect">
            <a:avLst/>
          </a:prstGeom>
          <a:noFill/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 male Sprague-Dawley rats, 280±4 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re  anesthetiz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jection of Na-pentobarbital, surgery dose – 65 mg/kg, supplemental dose - 10-15 mg/kg/h. Animals were tracheotomized with plastic tubing (PE-240) to ensure proper lung ventilation; PE-90 catheters were inserted into right femoral artery and vein for MAP monitoring, blood gas analysis sampling, blood exchange transfusion and for infus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osed Cranial Window (CCW) was made over the right parietal lobe (hemisphere). Perfusion of the window was performed using a peristaltic mini-pump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gge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ny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c., Lincolnshire, IL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 rate of 0.3-0.5 ml/min. Intracranial pressure (ICP) was kept about 4-6 mm Hg by the elevation of the outflow reservo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travital microscope (Carl Zeiss, Hawthorne, NY) equipped with a Neofluar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0.60 N.A. objective was used to visualize brain cortex microvessels. Epi-illumination of the brain surface was performed using 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er-Lite MI-150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uminato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olan-Jenner Industries Inc., Lawrence, 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The optical fibers were positioned at a 50° angle (relative to the optical axis) and two light spots were focused on the focus plane of the obj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106520" y="21412080"/>
            <a:ext cx="12801600" cy="4483080"/>
          </a:xfrm>
          <a:prstGeom prst="rect">
            <a:avLst/>
          </a:prstGeom>
          <a:noFill/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vascular oxygen tension was measured using the phosphorescence quenching technique. A phosphor solution was injected intravenously at the beginning of the experiment to yield an estimated plasma concentration of 0.3-0.5 mg/ml. A xenon flash lamp (model FX-249, EG&amp;G Electro-optics Co., Salem, MA; 10 Hz flash frequency, power 2.5 J) was used for phosphor excitation. The size of the excitation window was set by a rectangular diaphragm.  The smaller dimension of the rectangular window was equal in length to the inside diameter of the vessel being measured. The emitted phosphorescence passed through a dichroic mirror and through a 630 nm cut-on filter and was detected by a photomultiplier tube (model R632, Hamamatsu Photonics, Japan). The amplified output was sent to a data acquisition board in a personal computer. Fifty decay curves (elapsed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s) were collected for each measurement site in order to improve the signal-to-noise ratio through  signal averaging. Data acquisition was under the control of a LabView program (version 4.1, National Instruments, Austin, T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212680" y="9223200"/>
            <a:ext cx="5153040" cy="7233840"/>
          </a:xfrm>
          <a:prstGeom prst="rect">
            <a:avLst/>
          </a:prstGeom>
          <a:noFill/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velocity measurements in venous cortical microvessels were performed using fluorescent microspheres (FS), injected into the blood stream, flash illumination and frame-by-frame analysis of the tracks on video recordings [2]. Fluorescent microspheres, 2 µm in diameter, type F-8827, yellow-green 505/515 nm (Molecular Probes , Inc., Eugene, OR) were injected intravenously, as a 0.1-0.2 ml bolus in a concentration of 1·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is quantity of particles was enough to provide measurements of linear blood velocity in venules of luminal diameter of 10-100 µm over a 2-3 minutes perio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echnical reasons velocity in arterioles using FS-method was not measur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9120" y="7924680"/>
            <a:ext cx="30861000" cy="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573000" y="28498680"/>
            <a:ext cx="6156360" cy="6572520"/>
          </a:xfrm>
          <a:prstGeom prst="rect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 male Sprague-Dawley rats were used in the stu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dilution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t=34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rst step) induced no significant changes in systemic variables from contr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cond step of hemodilution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t=2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resulted in a decrease of MAP to 120.5±2.8 mm Hg (p&lt;0.0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hemodilution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t=1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produced a sharp decrease in MAP to 108.8±2.5 mm Hg (p&lt;0.001), arterial p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32.3±1.1 mm Hg (p&lt;0.001) and arterial p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73.6±1.4 mm Hg (p&lt;0.0001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able1" descr=""/>
          <p:cNvPicPr/>
          <p:nvPr/>
        </p:nvPicPr>
        <p:blipFill>
          <a:blip r:embed="rId3"/>
          <a:stretch/>
        </p:blipFill>
        <p:spPr>
          <a:xfrm>
            <a:off x="838080" y="27965520"/>
            <a:ext cx="9144000" cy="6858000"/>
          </a:xfrm>
          <a:prstGeom prst="rect">
            <a:avLst/>
          </a:prstGeom>
          <a:ln w="38160">
            <a:solidFill>
              <a:srgbClr val="cc00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19278720" y="45872280"/>
            <a:ext cx="11788560" cy="4388040"/>
          </a:xfrm>
          <a:prstGeom prst="rect">
            <a:avLst/>
          </a:prstGeom>
          <a:noFill/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457200" indent="-457200"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uebener L. F., et al. (2001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ffects of hematocrit on cerebral   microcirculation and tissue oxygenation during deep hypothermic bypass. Circulation 104 (12 Suppl 1):I260-I26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vainen C. M., Wang D. B., and Woolsey T. A. (1992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trobe epi-illumination of fluorescent beads indicates similar velocities and wall shear rates in brain arterioles of newborn and adult mice. Microvasc.Res. 43 (2):235-239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venko E.P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tribution of oxygen tension on the surface of arterioles, capillaries and venules of brain cortex and in tissue in normoxia: an experimental study on rats. Pflügers Arch. 437(4):617-623, 1999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iyama, Y. et al., (1999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modilution, cerebral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ivery, and cerebral blood flow: a study using hyperbaric oxygenation. Am.J.Physiol. 276:H1190-H119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73000" y="44424720"/>
            <a:ext cx="5315040" cy="5724000"/>
          </a:xfrm>
          <a:prstGeom prst="rect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ive of the microscope was always focused on the median plane of a venule to record  FS’s moving only in the centerline. The depth of field of the objective (distance in the vertical plane where all objects are clearly visible), however, is about 3-5 µ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ans that in addition to  axially positioned FluoSpheres with maximal velocity, FluoSpheres from different points of a vessel's lumen were also taken into account. The actual blood velocity in the observed venules might thus be higher than the values presented in the Fig.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496680" y="35966520"/>
            <a:ext cx="6504120" cy="8034120"/>
          </a:xfrm>
          <a:prstGeom prst="rect">
            <a:avLst/>
          </a:prstGeom>
          <a:noFill/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6600cc"/>
              </a:buClr>
              <a:buSzPct val="130000"/>
              <a:buFont typeface="Web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hould be noted that oxygen tension in arterioles was significantly lower than corresponding values of systemic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This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rop was accounted for by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iffusion through the arteriolar wall [3]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cc"/>
              </a:buClr>
              <a:buSzPct val="130000"/>
              <a:buFont typeface="Web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hemodilution (Hct=34%) resulted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S) of venular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cc"/>
              </a:buClr>
              <a:buSzPct val="130000"/>
              <a:buFont typeface="Web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ate level of hemodilution (Hct=20%) resulted in marked decrease (NS) in arteriolar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roduced no changes in venular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lative to the control. These data indicate the adequate level of oxygen supply to brain tissue, despite the increased stress of oxygen transport mechanis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cc"/>
              </a:buClr>
              <a:buSzPct val="130000"/>
              <a:buFont typeface="Web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e hemodilution (Hct=11%) invoked a pronounced and significant drop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.01) both arteriolar and venular values of oxygen tension.  The level of oxygen supply to brain cortex  is insufficient with signs of developing hypox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cc"/>
              </a:buClr>
              <a:buSzPct val="130000"/>
              <a:buFont typeface="Web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fig3complete" descr=""/>
          <p:cNvPicPr/>
          <p:nvPr/>
        </p:nvPicPr>
        <p:blipFill>
          <a:blip r:embed="rId4"/>
          <a:stretch/>
        </p:blipFill>
        <p:spPr>
          <a:xfrm>
            <a:off x="838080" y="35890200"/>
            <a:ext cx="10501560" cy="7875720"/>
          </a:xfrm>
          <a:prstGeom prst="rect">
            <a:avLst/>
          </a:prstGeom>
          <a:ln w="38160">
            <a:solidFill>
              <a:srgbClr val="cc00ff"/>
            </a:solidFill>
            <a:miter/>
          </a:ln>
        </p:spPr>
      </p:pic>
      <p:pic>
        <p:nvPicPr>
          <p:cNvPr id="61" name="vcu_LOGO1" descr=""/>
          <p:cNvPicPr/>
          <p:nvPr/>
        </p:nvPicPr>
        <p:blipFill>
          <a:blip r:embed="rId5"/>
          <a:stretch/>
        </p:blipFill>
        <p:spPr>
          <a:xfrm>
            <a:off x="2362320" y="5410080"/>
            <a:ext cx="2066760" cy="1819440"/>
          </a:xfrm>
          <a:prstGeom prst="rect">
            <a:avLst/>
          </a:prstGeom>
          <a:ln w="0">
            <a:noFill/>
          </a:ln>
        </p:spPr>
      </p:pic>
      <p:pic>
        <p:nvPicPr>
          <p:cNvPr id="62" name="pavlov_logo" descr=""/>
          <p:cNvPicPr/>
          <p:nvPr/>
        </p:nvPicPr>
        <p:blipFill>
          <a:blip r:embed="rId6"/>
          <a:stretch/>
        </p:blipFill>
        <p:spPr>
          <a:xfrm>
            <a:off x="685800" y="4114800"/>
            <a:ext cx="1519200" cy="3246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335120" y="20269080"/>
            <a:ext cx="1371600" cy="3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fig2FS" descr=""/>
          <p:cNvPicPr/>
          <p:nvPr/>
        </p:nvPicPr>
        <p:blipFill>
          <a:blip r:embed="rId7"/>
          <a:stretch/>
        </p:blipFill>
        <p:spPr>
          <a:xfrm>
            <a:off x="26765280" y="16706880"/>
            <a:ext cx="4572000" cy="9124920"/>
          </a:xfrm>
          <a:prstGeom prst="rect">
            <a:avLst/>
          </a:prstGeom>
          <a:ln w="38160">
            <a:solidFill>
              <a:srgbClr val="cc00ff"/>
            </a:solidFill>
            <a:miter/>
          </a:ln>
        </p:spPr>
      </p:pic>
      <p:pic>
        <p:nvPicPr>
          <p:cNvPr id="65" name="fig5complete" descr=""/>
          <p:cNvPicPr/>
          <p:nvPr/>
        </p:nvPicPr>
        <p:blipFill>
          <a:blip r:embed="rId8"/>
          <a:stretch/>
        </p:blipFill>
        <p:spPr>
          <a:xfrm>
            <a:off x="22097880" y="27965520"/>
            <a:ext cx="9144000" cy="6858000"/>
          </a:xfrm>
          <a:prstGeom prst="rect">
            <a:avLst/>
          </a:prstGeom>
          <a:ln w="38160">
            <a:solidFill>
              <a:srgbClr val="cc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2T10:20:20Z</dcterms:created>
  <dc:creator>Eugene Vovenko</dc:creator>
  <dc:description/>
  <dc:language>en-US</dc:language>
  <cp:lastModifiedBy>Eugene Vovenko</cp:lastModifiedBy>
  <dcterms:modified xsi:type="dcterms:W3CDTF">2002-08-13T16:27:37Z</dcterms:modified>
  <cp:revision>58</cp:revision>
  <dc:subject/>
  <dc:title>PowerPoint Presentation</dc:title>
</cp:coreProperties>
</file>